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7.png" ContentType="image/png"/>
  <Override PartName="/ppt/media/image30.wmf" ContentType="image/x-wmf"/>
  <Override PartName="/ppt/media/image26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9.wmf" ContentType="image/x-wmf"/>
  <Override PartName="/ppt/media/image11.png" ContentType="image/png"/>
  <Override PartName="/ppt/media/image12.png" ContentType="image/png"/>
  <Override PartName="/ppt/media/image32.wmf" ContentType="image/x-wmf"/>
  <Override PartName="/ppt/media/image6.wmf" ContentType="image/x-wmf"/>
  <Override PartName="/ppt/media/image36.wmf" ContentType="image/x-wmf"/>
  <Override PartName="/ppt/media/image13.png" ContentType="image/png"/>
  <Override PartName="/ppt/media/image8.wmf" ContentType="image/x-wmf"/>
  <Override PartName="/ppt/media/image7.wmf" ContentType="image/x-wmf"/>
  <Override PartName="/ppt/media/image37.wmf" ContentType="image/x-wmf"/>
  <Override PartName="/ppt/media/image14.png" ContentType="image/png"/>
  <Override PartName="/ppt/media/image9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media/image31.wmf" ContentType="image/x-wmf"/>
  <Override PartName="/ppt/media/image1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8AA-AE5F-4CF5-A14D-59A125D7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EC5-8943-427D-8D21-4A05A8BA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734-6DD6-4150-A1F4-41E98D49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E76-4132-4D3B-BFCC-26A4B96B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4EC1-EC9F-402B-9BA1-B79CB48E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DAD5-1F9D-42AE-B9CB-DBE42A8B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DE33-D14D-4E27-B81D-76EAC23A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C18A-61BF-41A0-9EC2-81F1103F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9868-69FA-459E-A160-1374AF8A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8BF5-7798-4C64-AA29-3E674C6C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D2FF-F947-4601-9AC6-94FFFA8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F723-70FC-4579-8911-45FDE5D7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D579-B968-4F47-8386-902F1FE6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A098-0CE8-4F27-87C4-55F0BA5A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7C51-D551-457B-AE7C-CFA5B1EB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0653-B5A6-4C46-80F3-5A105E36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14E2-1136-41B2-B5BF-6F8CC413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AB4-1E01-45A8-96D7-2235D56E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F2D-FB43-4088-9CFC-A0A248F8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F94C-C35A-45D0-AA8A-D1356E40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51A-B873-4CDD-BEB8-14DEE1D3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835-85D0-49E5-B571-636B06C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D25-7990-436D-99EE-125AA876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207-E435-40F8-AC12-195614F1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B865-285E-4A08-9401-8CDAEC8465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D6FA-772D-49A6-834A-925CE3E920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Face Detection &amp; Recognition using Linear Classifier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284640"/>
            <a:ext cx="723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Young Le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ervisor: Dr. J. Park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ital Media La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versity of Calg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Linear Discriminant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651492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tter structur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in-classes scatt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99cccc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ween-classes scat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Verdana"/>
              </a:rPr>
              <a:t>Prior Class information is us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Verdana"/>
              </a:rPr>
              <a:t>Supervised lear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27280" y="2421000"/>
          <a:ext cx="266544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421000"/>
                    <a:ext cx="26654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56000" y="3860640"/>
          <a:ext cx="388908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3860640"/>
                    <a:ext cx="3889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5940360" y="2205000"/>
            <a:ext cx="208764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C is the number of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3500280"/>
            <a:ext cx="2158920" cy="5806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Verdana"/>
              </a:rPr>
              <a:t>n is the number of data of each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2565360"/>
            <a:ext cx="1584360" cy="142920"/>
          </a:xfrm>
          <a:custGeom>
            <a:avLst/>
            <a:gdLst/>
            <a:ahLst/>
            <a:rect l="l" t="t" r="r" b="b"/>
            <a:pathLst>
              <a:path w="998" h="90">
                <a:moveTo>
                  <a:pt x="998" y="0"/>
                </a:moveTo>
                <a:cubicBezTo>
                  <a:pt x="945" y="45"/>
                  <a:pt x="892" y="90"/>
                  <a:pt x="726" y="90"/>
                </a:cubicBezTo>
                <a:cubicBezTo>
                  <a:pt x="560" y="90"/>
                  <a:pt x="113" y="1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1280" y="3813120"/>
            <a:ext cx="2665440" cy="336600"/>
          </a:xfrm>
          <a:custGeom>
            <a:avLst/>
            <a:gdLst/>
            <a:ahLst/>
            <a:rect l="l" t="t" r="r" b="b"/>
            <a:pathLst>
              <a:path w="1679" h="212">
                <a:moveTo>
                  <a:pt x="1679" y="30"/>
                </a:moveTo>
                <a:cubicBezTo>
                  <a:pt x="1161" y="15"/>
                  <a:pt x="643" y="0"/>
                  <a:pt x="363" y="30"/>
                </a:cubicBezTo>
                <a:cubicBezTo>
                  <a:pt x="83" y="60"/>
                  <a:pt x="53" y="189"/>
                  <a:pt x="0" y="2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Linear Discriminant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23420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oal is to find a projection set that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izes within-classes sc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izes between-classes sc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.e., a projection set that Maxim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ed by Generalized Eigen Decomposition against 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56000" y="3429000"/>
          <a:ext cx="30240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429000"/>
                    <a:ext cx="30240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43280" y="1916280"/>
            <a:ext cx="3241440" cy="324144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708360" y="4005360"/>
            <a:ext cx="432000" cy="43164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27640" y="2997360"/>
            <a:ext cx="1439640" cy="1439640"/>
          </a:xfrm>
          <a:prstGeom prst="line">
            <a:avLst/>
          </a:prstGeom>
          <a:ln w="1015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3500280"/>
            <a:ext cx="1440000" cy="1440000"/>
          </a:xfrm>
          <a:prstGeom prst="line">
            <a:avLst/>
          </a:prstGeom>
          <a:ln w="1015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CA vs. LD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3137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780000" y="31417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28526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4005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4290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3500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314172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005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67280" y="371628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2781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59280" y="4437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29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06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27640" y="3429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573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40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80000" y="2349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84720" y="256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350028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3640" y="3645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6720" y="3284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79640" y="2852640"/>
            <a:ext cx="3456000" cy="324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3280" y="3499920"/>
            <a:ext cx="2087640" cy="230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602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u (PCA proj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2997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w (LDA proj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5373720"/>
            <a:ext cx="597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763640" y="2060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771640" y="3068640"/>
            <a:ext cx="432000" cy="43164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058920" y="3284640"/>
            <a:ext cx="431640" cy="43164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76360" y="3573360"/>
            <a:ext cx="431640" cy="43200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492360" y="3789360"/>
            <a:ext cx="432000" cy="43164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924000" y="4221000"/>
            <a:ext cx="431640" cy="43200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140000" y="4437000"/>
            <a:ext cx="431640" cy="43200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356000" y="4653000"/>
            <a:ext cx="432000" cy="431640"/>
          </a:xfrm>
          <a:prstGeom prst="line">
            <a:avLst/>
          </a:prstGeom>
          <a:ln w="88920">
            <a:solidFill>
              <a:srgbClr val="cc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27280" y="3429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357336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3789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3640" y="4005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422100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44370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4653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40360" y="4869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5013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4437000"/>
            <a:ext cx="7164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3280" y="3645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16360" y="3716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32000" y="3932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41482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4365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8000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95640" y="47242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11640" y="49417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51640" y="4508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24360" y="443700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96000" y="4365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292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48360" y="501336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494172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4869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479736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4724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342900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3213000"/>
            <a:ext cx="14472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95640" y="2708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56000" y="4149720"/>
            <a:ext cx="14472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1964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422100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284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2781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443700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27640" y="386064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3284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360" y="3500280"/>
            <a:ext cx="144360" cy="144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27640" y="1628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Linear s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65560" y="1789200"/>
            <a:ext cx="1154160" cy="474480"/>
          </a:xfrm>
          <a:custGeom>
            <a:avLst/>
            <a:gdLst/>
            <a:ahLst/>
            <a:rect l="l" t="t" r="r" b="b"/>
            <a:pathLst>
              <a:path w="727" h="299">
                <a:moveTo>
                  <a:pt x="727" y="39"/>
                </a:moveTo>
                <a:cubicBezTo>
                  <a:pt x="536" y="0"/>
                  <a:pt x="381" y="17"/>
                  <a:pt x="178" y="25"/>
                </a:cubicBezTo>
                <a:cubicBezTo>
                  <a:pt x="102" y="51"/>
                  <a:pt x="132" y="67"/>
                  <a:pt x="96" y="121"/>
                </a:cubicBezTo>
                <a:cubicBezTo>
                  <a:pt x="85" y="137"/>
                  <a:pt x="67" y="147"/>
                  <a:pt x="55" y="162"/>
                </a:cubicBezTo>
                <a:cubicBezTo>
                  <a:pt x="45" y="175"/>
                  <a:pt x="37" y="189"/>
                  <a:pt x="28" y="203"/>
                </a:cubicBezTo>
                <a:cubicBezTo>
                  <a:pt x="12" y="282"/>
                  <a:pt x="25" y="251"/>
                  <a:pt x="0" y="2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rcing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One classifier may be not enoug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ier can be designed to improve the generalization accur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component classifi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daptive reweighting and comb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Bagg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Boos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gging (Bootstrap Aggregation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Invented by Efron in 199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Bootstrap is a way of sampling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a procedure to choose random samples </a:t>
            </a:r>
            <a:r>
              <a:rPr b="0" i="1" lang="en-CA" sz="2900" spc="-1" strike="noStrike">
                <a:solidFill>
                  <a:srgbClr val="000000"/>
                </a:solidFill>
                <a:latin typeface="Verdana"/>
              </a:rPr>
              <a:t>with replacement 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from a data set (or a training se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Each Bootstrap replication is aggreg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gging (Bootstrap Aggregation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427040" y="1970640"/>
            <a:ext cx="7034400" cy="4058280"/>
            <a:chOff x="1427040" y="1970640"/>
            <a:chExt cx="7034400" cy="4058280"/>
          </a:xfrm>
        </p:grpSpPr>
        <p:sp>
          <p:nvSpPr>
            <p:cNvPr id="253" name=""/>
            <p:cNvSpPr/>
            <p:nvPr/>
          </p:nvSpPr>
          <p:spPr>
            <a:xfrm>
              <a:off x="4183920" y="1970640"/>
              <a:ext cx="1520640" cy="743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43080" y="3255480"/>
              <a:ext cx="570240" cy="4730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78960" y="3255480"/>
              <a:ext cx="570240" cy="4726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50360" y="3255480"/>
              <a:ext cx="570240" cy="4726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43080" y="4134960"/>
              <a:ext cx="66528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78960" y="4134960"/>
              <a:ext cx="66528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0360" y="4134960"/>
              <a:ext cx="665280" cy="33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83920" y="5014080"/>
              <a:ext cx="1615680" cy="439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gration or pooling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27040" y="3255480"/>
              <a:ext cx="12355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ootstrap repl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27040" y="4067640"/>
              <a:ext cx="123552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omponent classif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26120" y="5758200"/>
              <a:ext cx="133092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inal 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422880" y="2714760"/>
              <a:ext cx="114084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4564080" y="2714760"/>
              <a:ext cx="9504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9720" y="2714760"/>
              <a:ext cx="152064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28200" y="3729600"/>
              <a:ext cx="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4080" y="3729600"/>
              <a:ext cx="72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35840" y="3729600"/>
              <a:ext cx="72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3240" y="4473360"/>
              <a:ext cx="133092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59120" y="4473360"/>
              <a:ext cx="19008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419800" y="4473360"/>
              <a:ext cx="1615680" cy="54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24760" y="3390840"/>
              <a:ext cx="76032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● ● 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24760" y="4134960"/>
              <a:ext cx="76032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● ● 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39280" y="5454000"/>
              <a:ext cx="72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27040" y="2714760"/>
              <a:ext cx="1330560" cy="27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samp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27040" y="3729600"/>
              <a:ext cx="85536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511040" y="3796920"/>
              <a:ext cx="950400" cy="27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est 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18280" y="3932280"/>
              <a:ext cx="3992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18280" y="393228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76040" y="3962520"/>
              <a:ext cx="0" cy="13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47800" y="3962520"/>
              <a:ext cx="0" cy="13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gging (Bootstrap Aggregation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gration or pooling 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Majority Vot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Sum Ru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ometric Technolog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ysical: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Face detection, Face recogni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Face tracking, Iris recognition, Finger print recognition, Voice recognition,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havioral: Gaze tracking, Signature recognition, Hand gesture recognition, Gait tracking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Difficulties of face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70160" y="1557360"/>
            <a:ext cx="744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oo many variabilities involv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  <a:ea typeface="굴림"/>
              </a:rPr>
              <a:t>Image characteristic: varying illumination, scale, location, pose change, rotations, partial occlu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  <a:ea typeface="굴림"/>
              </a:rPr>
              <a:t>Physical shaping: facial expression, closed eyes, face outline, aging, size, col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Fully automated face recognition 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Input Image/Vide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Face dete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Normal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Face recogni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Ident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3706920" y="2637000"/>
            <a:ext cx="2663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3500280"/>
            <a:ext cx="2664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08360" y="4365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atistical Pattern Classific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Feature extra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utp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2924280"/>
            <a:ext cx="3816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3933720"/>
            <a:ext cx="259236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e Dete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eprocess of full Face recognition system: segmentation proc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o detect single face or multiple faces in a cluttered sce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iverse methodologies have been proposed: neural network, template matching, geometric feature extra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CA for Face Dete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raditional segmentation 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Boundary (edge) extra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Region grow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local geometric featu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CA is a holistic approach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Eigenfa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굴림"/>
              </a:rPr>
              <a:t>Set of orthonormal vectors (eigenvectors) which best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굴림"/>
              </a:rPr>
              <a:t>describ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굴림"/>
              </a:rPr>
              <a:t> the distribution of the face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굴림"/>
              </a:rPr>
              <a:t>basis of linear combin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굴림"/>
              </a:rPr>
              <a:t>Characteristics: frequency feature contained varies according to its or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 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    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       4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36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3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   38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          39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굴림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7188" t="-2842" r="0" b="0"/>
          <a:stretch/>
        </p:blipFill>
        <p:spPr>
          <a:xfrm>
            <a:off x="1547640" y="3357720"/>
            <a:ext cx="640908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rcRect l="7184" t="199" r="0" b="0"/>
          <a:stretch/>
        </p:blipFill>
        <p:spPr>
          <a:xfrm>
            <a:off x="1547640" y="5013360"/>
            <a:ext cx="64090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isualization of training (blue) and test (red) sets in the feature spa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182736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be viewed in the context of regres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eparation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Half separation             Full sep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2886120" cy="28288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2951280" cy="28083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6084720" y="2565360"/>
            <a:ext cx="2808360" cy="25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aliency Map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sed on Moghaddam &amp; Pentland’s paper [Probabilistic learning for object detection 1997]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ject of Visual Atten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liency Map: formulation of FO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on of FOA: Bottom-u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putationally very expens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835280" y="4292640"/>
          <a:ext cx="352872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4292640"/>
                    <a:ext cx="352872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ximum-Likelihoo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yes’ theorem (used when our interest is in a posteriori probabilit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ximum-Likelihood (preferred when the knowledge is vagu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9280" y="4724280"/>
          <a:ext cx="597708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724280"/>
                    <a:ext cx="59770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1763640" y="2492280"/>
          <a:ext cx="4753080" cy="12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492280"/>
                    <a:ext cx="475308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Multi-scale Pyrami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0160" y="1628640"/>
            <a:ext cx="75945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Detecting an object of varying sc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where k is scal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Performed by filtering and subsampl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Verdana"/>
              </a:rPr>
              <a:t>Filters: Gaussian, Laplacian, LoG, wavelet, etc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771640" y="4221000"/>
            <a:ext cx="4369680" cy="2197440"/>
            <a:chOff x="2771640" y="4221000"/>
            <a:chExt cx="4369680" cy="219744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2771640" y="4221000"/>
              <a:ext cx="2196000" cy="21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4967640" y="5319720"/>
              <a:ext cx="109800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6065640" y="5868360"/>
              <a:ext cx="548640" cy="55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4"/>
            <a:stretch/>
          </p:blipFill>
          <p:spPr>
            <a:xfrm>
              <a:off x="6614640" y="6074640"/>
              <a:ext cx="343080" cy="3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5"/>
            <a:stretch/>
          </p:blipFill>
          <p:spPr>
            <a:xfrm>
              <a:off x="6969960" y="6246360"/>
              <a:ext cx="171360" cy="172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327" name=""/>
          <p:cNvGraphicFramePr/>
          <p:nvPr/>
        </p:nvGraphicFramePr>
        <p:xfrm>
          <a:off x="2340000" y="2060640"/>
          <a:ext cx="2233440" cy="61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40000" y="2060640"/>
                    <a:ext cx="22334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Experi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detection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     false dete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(false positiv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908000" y="2205000"/>
            <a:ext cx="5688360" cy="2232000"/>
            <a:chOff x="1908000" y="2205000"/>
            <a:chExt cx="5688360" cy="22320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908000" y="2205000"/>
              <a:ext cx="26769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4919400" y="2205000"/>
              <a:ext cx="2676960" cy="2232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Normaliz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1670040" cy="25207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rcRect l="11966" t="5309" r="-1566" b="61010"/>
          <a:stretch/>
        </p:blipFill>
        <p:spPr>
          <a:xfrm>
            <a:off x="1403280" y="4292640"/>
            <a:ext cx="6912000" cy="2087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rcRect l="11966" t="5309" r="77263" b="78179"/>
          <a:stretch/>
        </p:blipFill>
        <p:spPr>
          <a:xfrm>
            <a:off x="5435640" y="2349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24360" y="2924280"/>
            <a:ext cx="12240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ce Recognit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Verdana"/>
              </a:rPr>
              <a:t>Nearest-neighbour characteristics of classifi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PCA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Verdana"/>
              </a:rPr>
              <a:t>   L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398960" y="3068640"/>
            <a:ext cx="7093800" cy="3230640"/>
            <a:chOff x="1398960" y="3068640"/>
            <a:chExt cx="7093800" cy="3230640"/>
          </a:xfrm>
        </p:grpSpPr>
        <p:pic>
          <p:nvPicPr>
            <p:cNvPr id="342" name="" descr=""/>
            <p:cNvPicPr/>
            <p:nvPr/>
          </p:nvPicPr>
          <p:blipFill>
            <a:blip r:embed="rId1"/>
            <a:stretch/>
          </p:blipFill>
          <p:spPr>
            <a:xfrm>
              <a:off x="1398960" y="3068640"/>
              <a:ext cx="3485160" cy="32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4884120" y="3068640"/>
              <a:ext cx="3608640" cy="3230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eature represent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089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ctor represen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ature vector x in the feature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fish with size and we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practice, the features are very high dimens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0" y="3933720"/>
          <a:ext cx="17272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933720"/>
                    <a:ext cx="1727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flipV="1">
            <a:off x="3492360" y="3789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360" y="537372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492360" y="4437000"/>
            <a:ext cx="1008360" cy="93672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5080" y="5157720"/>
            <a:ext cx="9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23440" y="342900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Measure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1 (city block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2 (Euclidean Distanc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340000" y="4724280"/>
            <a:ext cx="129528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4724280"/>
            <a:ext cx="208908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635280" y="306828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56000" y="4149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924000" y="508464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32000" y="508464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4581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32000" y="414972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924000" y="41497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2000" y="4149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635280" y="378936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132000" y="3789360"/>
            <a:ext cx="503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132000" y="4724280"/>
            <a:ext cx="503280" cy="360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5084640"/>
            <a:ext cx="792360" cy="4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4581360"/>
            <a:ext cx="0" cy="935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635280" y="4581000"/>
            <a:ext cx="289080" cy="1429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95640" y="4581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51280" y="4508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Measure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r (Minkowsky metric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Generalized ver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835280" y="3068640"/>
          <a:ext cx="518472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068640"/>
                    <a:ext cx="51847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 rot="1200000">
            <a:off x="3990600" y="4735440"/>
            <a:ext cx="1298520" cy="4208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tance Measure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2342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Mahalanobis Dist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rmalized (standardized) distance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orporates distribution of the training se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th respect to each featu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763640" y="1916280"/>
          <a:ext cx="396072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16280"/>
                    <a:ext cx="39607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 flipH="1">
            <a:off x="2556000" y="515772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564000" y="378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564000" y="5157720"/>
            <a:ext cx="1944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11640" y="472428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84720" y="479736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932360" y="515772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27640" y="494028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27640" y="479736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472428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494172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4869000"/>
            <a:ext cx="73080" cy="7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7640" y="465300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479736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494172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56000" y="530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00720" y="4797360"/>
            <a:ext cx="7272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43280" y="494172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00720" y="5013360"/>
            <a:ext cx="7272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00720" y="4869000"/>
            <a:ext cx="72720" cy="7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88000" y="494172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859280" y="501336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43280" y="494172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501336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88000" y="508464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003640" y="508464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1640" y="494172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4869000"/>
            <a:ext cx="73080" cy="72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40360" y="4797360"/>
            <a:ext cx="7272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43280" y="4941720"/>
            <a:ext cx="73080" cy="73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6720" y="501336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067280" y="4653000"/>
            <a:ext cx="73080" cy="73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59280" y="4581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ining data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64000" y="551664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 data vect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42210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an vect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564000" y="5013000"/>
            <a:ext cx="1008000" cy="14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5157720"/>
            <a:ext cx="792000" cy="1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80000" y="4437000"/>
            <a:ext cx="144360" cy="647640"/>
          </a:xfrm>
          <a:custGeom>
            <a:avLst/>
            <a:gdLst/>
            <a:ahLst/>
            <a:rect l="l" t="t" r="r" b="b"/>
            <a:pathLst>
              <a:path w="91" h="408">
                <a:moveTo>
                  <a:pt x="91" y="0"/>
                </a:moveTo>
                <a:cubicBezTo>
                  <a:pt x="45" y="34"/>
                  <a:pt x="0" y="68"/>
                  <a:pt x="0" y="136"/>
                </a:cubicBezTo>
                <a:cubicBezTo>
                  <a:pt x="0" y="204"/>
                  <a:pt x="84" y="363"/>
                  <a:pt x="91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427280" y="5013360"/>
            <a:ext cx="215640" cy="287280"/>
          </a:xfrm>
          <a:prstGeom prst="line">
            <a:avLst/>
          </a:prstGeom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88000" y="522936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halanobis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514760" y="5227560"/>
            <a:ext cx="392040" cy="192240"/>
          </a:xfrm>
          <a:custGeom>
            <a:avLst/>
            <a:gdLst/>
            <a:ahLst/>
            <a:rect l="l" t="t" r="r" b="b"/>
            <a:pathLst>
              <a:path w="247" h="121">
                <a:moveTo>
                  <a:pt x="247" y="86"/>
                </a:moveTo>
                <a:cubicBezTo>
                  <a:pt x="223" y="110"/>
                  <a:pt x="207" y="111"/>
                  <a:pt x="176" y="121"/>
                </a:cubicBezTo>
                <a:cubicBezTo>
                  <a:pt x="155" y="119"/>
                  <a:pt x="133" y="121"/>
                  <a:pt x="113" y="114"/>
                </a:cubicBezTo>
                <a:cubicBezTo>
                  <a:pt x="91" y="106"/>
                  <a:pt x="98" y="70"/>
                  <a:pt x="85" y="51"/>
                </a:cubicBezTo>
                <a:cubicBezTo>
                  <a:pt x="80" y="44"/>
                  <a:pt x="78" y="35"/>
                  <a:pt x="71" y="30"/>
                </a:cubicBezTo>
                <a:cubicBezTo>
                  <a:pt x="59" y="21"/>
                  <a:pt x="42" y="22"/>
                  <a:pt x="29" y="15"/>
                </a:cubicBezTo>
                <a:cubicBezTo>
                  <a:pt x="0" y="0"/>
                  <a:pt x="18" y="1"/>
                  <a:pt x="1" y="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Datab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Verdana"/>
              </a:rPr>
              <a:t>FERET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: database size is huge and evaluation method is standardiz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Other databases:</a:t>
            </a:r>
            <a:r>
              <a:rPr b="1" lang="en-CA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Olivetti (AT &amp; T), Yale, MIT, Purdue, XM2TV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ERET evaluation method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975680" y="2421360"/>
            <a:ext cx="6033960" cy="3347640"/>
            <a:chOff x="1975680" y="2421360"/>
            <a:chExt cx="6033960" cy="3347640"/>
          </a:xfrm>
        </p:grpSpPr>
        <p:sp>
          <p:nvSpPr>
            <p:cNvPr id="421" name=""/>
            <p:cNvSpPr/>
            <p:nvPr/>
          </p:nvSpPr>
          <p:spPr>
            <a:xfrm>
              <a:off x="3084120" y="3310560"/>
              <a:ext cx="473400" cy="380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43000" y="2745000"/>
              <a:ext cx="918720" cy="36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78800" y="2421360"/>
              <a:ext cx="1990800" cy="9716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arget 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62480" y="3056760"/>
              <a:ext cx="947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67800" y="3183480"/>
              <a:ext cx="1041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75680" y="5013000"/>
              <a:ext cx="1611000" cy="28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op N match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15680" y="5151240"/>
              <a:ext cx="0" cy="19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57880" y="3119760"/>
              <a:ext cx="673560" cy="81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52920" y="3393360"/>
              <a:ext cx="644760" cy="5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65200" y="3933000"/>
              <a:ext cx="25783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cognition Algorith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92360" y="4365360"/>
              <a:ext cx="720" cy="38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14560" y="4941000"/>
              <a:ext cx="0" cy="7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748320" y="4797000"/>
              <a:ext cx="1288800" cy="97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48320" y="5013000"/>
              <a:ext cx="12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48320" y="5229360"/>
              <a:ext cx="128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31440" y="4905000"/>
              <a:ext cx="321840" cy="86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Termin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900" spc="-1" strike="noStrike">
                <a:solidFill>
                  <a:srgbClr val="000000"/>
                </a:solidFill>
                <a:latin typeface="Verdana"/>
              </a:rPr>
              <a:t>Rank scor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Accumulative Match Score curve (or Rank curv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Gallery, Probe, Closed universe, Open universe,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ult – under FERET set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727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Gallery and Probe 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 known set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 unknown s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gallery size 80)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gallery size 66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960720" cy="32400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3960720" cy="3240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411280" y="609300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61657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-74160" y="4186080"/>
            <a:ext cx="161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cognit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3886200" y="4186080"/>
            <a:ext cx="161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cognition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gging setting  - Design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0160" y="1700280"/>
            <a:ext cx="74498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raining data is class-wis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akes two resamplings for the bootstrapp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outer-class and within-class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5 within-class data of one subject is partitioned into 1 test and 4 training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thin-class resampling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3 out of 4 without 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ult  - under Design 1 set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CA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           LD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042920" y="2276640"/>
            <a:ext cx="7561080" cy="3240000"/>
            <a:chOff x="1042920" y="2276640"/>
            <a:chExt cx="7561080" cy="32400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1042920" y="2276640"/>
              <a:ext cx="3754440" cy="32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4797360" y="2276640"/>
              <a:ext cx="380664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agging setting  - Design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Performed under FERET setting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uses gallery and probe se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Data set is not partitioned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est (probe) set is separ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within-class resampling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5 out of 5 without replace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Holistic approach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earance-based approach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ch pixel of an image represents a fea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843280" y="4724280"/>
            <a:ext cx="100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4724280"/>
            <a:ext cx="143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21300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00720" y="3933720"/>
            <a:ext cx="571320" cy="68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51280" y="4221000"/>
            <a:ext cx="1008000" cy="503280"/>
          </a:xfrm>
          <a:custGeom>
            <a:avLst/>
            <a:gdLst/>
            <a:ahLst/>
            <a:rect l="l" t="t" r="r" b="b"/>
            <a:pathLst>
              <a:path w="857" h="490">
                <a:moveTo>
                  <a:pt x="0" y="490"/>
                </a:moveTo>
                <a:lnTo>
                  <a:pt x="85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ult  - under Design 2 sett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3867120" cy="36007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403236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CA and LDA are linear classifiers that can be used for Face detection/ recognition tas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yramid was used to attack the problem of varying scale in face detec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 shown in FERET evaluation, nearest-neighbor classifier gives rank ordering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gging makes use of component classifiers and can improve generalization accurac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[Duda, R., Hart, P. and Stork, D.  2001]  Pattern Classification, John Wiley &amp; So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[Jain, A. and Dubes, R.  1988]  Algorithms for Clustering Data, Prentice Hal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[Turk, M. and Pentland, A.  1991]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Eigenfaces for Recognition,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J. Cogn Neurosci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 3, 72-86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urse of dimensional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488360" cy="43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listic approach suffers from curse of dimension due to the excessive dimensiona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utational complexity of a covariance or scatter matrix: O(n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Linear Classifi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1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resented using the sum of linear combination, i.e.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rit: simple and trac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wo classical linear classifi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CA: seeks a projection that best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represent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DA: seeks a projection that best </a:t>
            </a: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separat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the d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72360" y="2133720"/>
          <a:ext cx="20160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2133720"/>
                    <a:ext cx="2016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新細明體"/>
              </a:rPr>
              <a:t>Principal Component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21840" y="1700280"/>
            <a:ext cx="7742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新細明體"/>
              </a:rPr>
              <a:t>Eigen analysis, Karhunen-Loeve transform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굴림"/>
              </a:rPr>
              <a:t>Eigenvectors: derived from Eigen decomposition of the scatter matrix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굴림"/>
              </a:rPr>
              <a:t> projection set that best explains the distribution of the representative features of an object of intere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新細明體"/>
              </a:rPr>
              <a:t>Principal Component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69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Mean adjusted data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Covariance matrix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Eigenvector set U is obtained through eigen decomposition against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92360" y="3213000"/>
          <a:ext cx="468000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46800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835280" y="5805360"/>
          <a:ext cx="46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5805360"/>
                    <a:ext cx="46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763640" y="2205000"/>
          <a:ext cx="180036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2205000"/>
                    <a:ext cx="180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新細明體"/>
              </a:rPr>
              <a:t>Principal Component Analy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굴림"/>
              </a:rPr>
              <a:t>Data form a scatter in the feature space through projection set (eigen vector set U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Features (eigenvectors) are extracted from the training set without prior class inform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Unsupervised lea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7:25:08Z</dcterms:created>
  <dc:creator>ylee</dc:creator>
  <dc:description/>
  <dc:language>en-US</dc:language>
  <cp:lastModifiedBy>Young Lee</cp:lastModifiedBy>
  <dcterms:modified xsi:type="dcterms:W3CDTF">2004-12-19T06:02:27Z</dcterms:modified>
  <cp:revision>496</cp:revision>
  <dc:subject/>
  <dc:title>Face Detection &amp; Recognition using Linear Classifiers</dc:title>
</cp:coreProperties>
</file>